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F6DF8-AED0-49DA-B9EA-8853C135F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2244600"/>
            <a:ext cx="77724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680720"/>
            <a:ext cx="77724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7EA6D-09FE-48E8-ABF4-E37FE081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68072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68072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6318F-4AA0-4F77-B632-BA994C253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224460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224460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224460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68072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68072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680720"/>
            <a:ext cx="250236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8A7C-0202-448A-B1F4-C64A25B0B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2244600"/>
            <a:ext cx="7772400" cy="466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4C0AF-69A3-4F0F-8099-2C464F23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2244600"/>
            <a:ext cx="7772400" cy="466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819AA-0E6B-45E1-9442-6B1A0A4C4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244600"/>
            <a:ext cx="3792600" cy="466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2244600"/>
            <a:ext cx="3792600" cy="466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6CA46-6183-493C-8323-2246A3EA2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55926-834F-408B-A782-A16828E2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90120"/>
            <a:ext cx="77724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4173-87C7-45D4-A7B6-D3166670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2244600"/>
            <a:ext cx="3792600" cy="466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68072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DFD3-1A3F-4EE8-BFE0-3FC96EAB3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2244600"/>
            <a:ext cx="3792600" cy="466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68072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B848-BF4E-4FE2-BC0B-492A129C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2244600"/>
            <a:ext cx="37926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680720"/>
            <a:ext cx="7772400" cy="22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86FAF-148C-4F34-B823-CF18E1E50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244600"/>
            <a:ext cx="7772400" cy="4664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7081560"/>
            <a:ext cx="1905120" cy="5173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7081560"/>
            <a:ext cx="2895840" cy="517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7081560"/>
            <a:ext cx="1905120" cy="5173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B7A4-22A8-4886-934A-FA5776B70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rPr>
              <a:t>GAAP in the U</a:t>
            </a:r>
            <a:r>
              <a:rPr b="1" lang="en-US" sz="4400" spc="-1" strike="noStrike">
                <a:solidFill>
                  <a:srgbClr val="000000"/>
                </a:solidFill>
                <a:latin typeface="Times New Roman"/>
              </a:rPr>
              <a:t>.</a:t>
            </a:r>
            <a:r>
              <a:rPr b="1" lang="hu-HU" sz="4400" spc="-1" strike="noStrike">
                <a:solidFill>
                  <a:srgbClr val="000000"/>
                </a:solidFill>
                <a:latin typeface="Times New Roman"/>
              </a:rPr>
              <a:t>S</a:t>
            </a:r>
            <a:r>
              <a:rPr b="1" lang="en-US" sz="4400" spc="-1" strike="noStrike">
                <a:solidFill>
                  <a:srgbClr val="000000"/>
                </a:solidFill>
                <a:latin typeface="Times New Roman"/>
              </a:rPr>
              <a:t>.</a:t>
            </a:r>
            <a:r>
              <a:rPr b="1" lang="hu-HU" sz="4400" spc="-1" strike="noStrike">
                <a:solidFill>
                  <a:srgbClr val="000000"/>
                </a:solidFill>
                <a:latin typeface="Times New Roman"/>
              </a:rPr>
              <a:t>A</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03520"/>
            <a:ext cx="6400800" cy="1987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Generally Accepted Accounting Princip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a:t>
            </a:r>
            <a:r>
              <a:rPr b="1" lang="hu-HU" sz="4400" spc="-1" strike="noStrike">
                <a:solidFill>
                  <a:srgbClr val="000000"/>
                </a:solidFill>
                <a:latin typeface="Times New Roman"/>
              </a:rPr>
              <a:t> (1)</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2244600"/>
            <a:ext cx="7848720" cy="529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Entity Conce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usiness transactions must be separated from private activ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The Going Concern Assump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sumes that the business will continue to trade in the foreseeable fu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Realization Princip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o not anticipate revenue or expenses until they are fulfill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Revenue recogni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Installment metho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ercentage-of-Comple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a:t>
            </a:r>
            <a:r>
              <a:rPr b="1" lang="hu-HU" sz="4400" spc="-1" strike="noStrike">
                <a:solidFill>
                  <a:srgbClr val="000000"/>
                </a:solidFill>
                <a:latin typeface="Times New Roman"/>
              </a:rPr>
              <a:t> (2)</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6761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The Time Period Princip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ancial statements must be prepared at regular intervals (e.g. monthly, or at least annuall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The Stable-Dollar Assump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Money is used as the basic measuring unit for financial reporting. The dollar indicates the relative price (or value) of different goods and services. Since the dollar is not a stable measure of value, the Financial Accounting Standards Board (FASB) asks large corporations voluntarily to prepare supplementary information disclosing the effects of inflation. In periods of low inflation, this assumption does not cause serious problem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4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a:t>
            </a:r>
            <a:r>
              <a:rPr b="1" lang="hu-HU" sz="4400" spc="-1" strike="noStrike">
                <a:solidFill>
                  <a:srgbClr val="000000"/>
                </a:solidFill>
                <a:latin typeface="Times New Roman"/>
              </a:rPr>
              <a:t> (3)</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41240"/>
            <a:ext cx="7772400" cy="5267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Objectivity Principl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Objectivity means that information is unbiased and subject to verification by independent experts. Despite  this goal, depreciation expense for example is an estimation, but the measurement must be reliable and, at the same time, as relevant to decision makers as possibl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Cost Principl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t the time an asset is originally acquired, cost represents the „fair market value”, as evidenced by an arm’s-length transaction. Later changes in fair market value generally have been ignored in the accounts, except depreci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a:t>
            </a:r>
            <a:r>
              <a:rPr b="1" lang="hu-HU" sz="4400" spc="-1" strike="noStrike">
                <a:solidFill>
                  <a:srgbClr val="000000"/>
                </a:solidFill>
                <a:latin typeface="Times New Roman"/>
              </a:rPr>
              <a:t> (4)</a:t>
            </a:r>
            <a:endParaRPr b="0" lang="en-US" sz="4400" spc="-1" strike="noStrike">
              <a:solidFill>
                <a:srgbClr val="000000"/>
              </a:solidFill>
              <a:latin typeface="Times New Roman"/>
            </a:endParaRPr>
          </a:p>
        </p:txBody>
      </p:sp>
      <p:sp>
        <p:nvSpPr>
          <p:cNvPr id="50" name="PlaceHolder 2"/>
          <p:cNvSpPr>
            <a:spLocks noGrp="1"/>
          </p:cNvSpPr>
          <p:nvPr>
            <p:ph/>
          </p:nvPr>
        </p:nvSpPr>
        <p:spPr>
          <a:xfrm>
            <a:off x="703080" y="1828800"/>
            <a:ext cx="7770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Disclosure Princip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ll material and relevant facts concerning financial position and the results of operations are communicated to users. This includ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ccounting methods used in the preparation of the state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Dollar effects of any changes in these accounting metho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ny material effect upon the financial position of the busin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ontractual provisions that will affect future cash flow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onditions of borrowing agreemen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ommitments to buy or sell  material amounts of asse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901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 (5)</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244600"/>
            <a:ext cx="7772400" cy="4664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ching Princip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s should be matched to their related revenue in accordance with the accrual concept. Selling, general and other indirect costs that occur on regular basis regardless of the sales volume, are required to be expensed when incurr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it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me individual items are of such a low value that it is not worthwhile to record them separately, but in groups (i.e. they are not “mater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AP (6)</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stency Princip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ce an accounting principle has been adopted it should not be changed. When a change is necessary it should be recognized by including the cumulative effect of the change in the net income of the period of change, and not by restating the financial statements of prior perio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rvatis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principle is in connection with the measurement of net income and the reporting of accounts receivable and inventories in the balance sheet. (e.g. pricing of inventories at the lower-of-cost-or-market, that is the replacement co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6:40:03Z</dcterms:created>
  <dc:creator>István</dc:creator>
  <dc:description/>
  <dc:language>en-US</dc:language>
  <cp:lastModifiedBy>ME</cp:lastModifiedBy>
  <dcterms:modified xsi:type="dcterms:W3CDTF">2004-09-14T14:57:10Z</dcterms:modified>
  <cp:revision>26</cp:revision>
  <dc:subject/>
  <dc:title>Accounting Concepts in the United Kingdom</dc:title>
</cp:coreProperties>
</file>